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20C6-7F6A-424C-AF34-00598CE3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4DF8-BDC3-4CC5-9DA1-CB1F50D2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6CB8-C2DF-4548-9F3A-ADE0FAB3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29AA-2253-4C9B-AFC1-DD2D35E2D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84D5-9C45-490B-A38D-194DAA4B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5619-D2B1-43BC-B0D3-4EE61CF0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7C98-30F1-41B6-9297-1A745BAB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F1A0-4EF9-4702-B73E-C036A27D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7BA3-595E-4F34-B7EA-9A0F26BB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A9A1-EB7D-41C9-9561-48D0215C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B5F9-E0A3-4810-A055-9106B533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94D4-A414-4FD6-8930-94025287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C59E-82EE-4B84-B408-A93AB13E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09BD-C912-412F-9FDE-B56AF817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59C1-B7AD-4032-ACE0-6AF11EBF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7663-45E0-48FF-B325-37BBE695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232E-0F49-4735-B83C-A94174C00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AA03-C682-4E7D-824C-7201C517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6C4C-AF18-4DBF-A858-3E043495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EEB0-9DF1-4FC5-B2D5-355879D2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586B-A0C3-48A2-8B05-54645EF5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1776-BCD0-429B-B608-65BF9B7C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D82E-CCC0-4C67-90BA-2FBCC9D5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7267-945E-49A9-99A2-5EB4197F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4990-50A5-4248-9F97-5F0C3250A00E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1396-B2BE-4C51-9D62-B4C945AD4465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2000" y="1143000"/>
            <a:ext cx="69944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0033"/>
                </a:solidFill>
                <a:latin typeface="Times New Roman"/>
              </a:rPr>
              <a:t>PAŽINIMO PROCESAI:</a:t>
            </a:r>
            <a:br>
              <a:rPr sz="4800"/>
            </a:b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Times New Roman"/>
              </a:rPr>
              <a:t>JUTIMAS IR SUVOK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SPALVOS PASTOVU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60560" y="2643120"/>
            <a:ext cx="754848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KLAUSA 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Amplitudė, daž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Ausis: vidurinė a., vidinė a., sraig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KITI JUTIMAI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Lyta: spaudimo, šilumos, šalčio ir skausmo derinys; Melzacko ir Wallio „vartų kontrolės“ teo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konis: saldu, rūgštu, sūru ir kar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Uosl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ūno padėtis ir judėjimas - kinestez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UVOKIMA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uvokinys - sąmonėje susiformavęs daikto, reiškinio ar įvykio visumos atspind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percepcija – patyrimo įtaka suvokim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UVOKINIO KŪRIMAS 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Formos suvokimas: grupavimo taisyklės (artumas, panašumas, ištisumas, uždarumas, susietum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08000" y="3357720"/>
            <a:ext cx="5042160" cy="316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635280" y="33051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Arial"/>
                <a:ea typeface="Arial"/>
              </a:rPr>
              <a:t>Fonas - figū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Laiko suvokima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ritinis laiko intervala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- mažiausias tarp dviejų įvykių juntamas laiko tarp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ituacijos pobūd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otyv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mžiaus faktor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Gylio suvokimas:</a:t>
            </a:r>
            <a:br>
              <a:rPr sz="3800"/>
            </a:b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 </a:t>
            </a: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trimačių objektų matymas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Binokuliniai signalai: atvaizdų skirtumas tinklainėse, akių konvergen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onokuliniai signalai: santykinis dydis, sanklota, oro perspektyva, tekstūros gradientas, santykinis judėjimas, tiesinė perspektyva, santykinis skaistis, santykinis aukš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724360" y="4653000"/>
            <a:ext cx="216072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SUVOKIMO PASTOVU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Formos ir dydžio suvokimo pastov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ydžio suvokimo pastov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onzo iliuz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564000" y="3284640"/>
            <a:ext cx="49816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SUVOKINIO ĮPRASMINI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iulller-Lyerio iliuz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uostatos, apercepcijos sch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00720" y="4365720"/>
            <a:ext cx="382896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http://www.michaelbach.de/o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79280" y="1447560"/>
            <a:ext cx="8676720" cy="3392640"/>
            <a:chOff x="179280" y="1447560"/>
            <a:chExt cx="8676720" cy="3392640"/>
          </a:xfrm>
        </p:grpSpPr>
        <p:cxnSp>
          <p:nvCxnSpPr>
            <p:cNvPr id="100" name="_s34830"/>
            <p:cNvCxnSpPr>
              <a:stCxn id="101" idx="1"/>
              <a:endCxn id="102" idx="2"/>
            </p:cNvCxnSpPr>
            <p:nvPr/>
          </p:nvCxnSpPr>
          <p:spPr>
            <a:xfrm rot="10800000">
              <a:off x="2908800" y="2424960"/>
              <a:ext cx="283320" cy="2127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34829"/>
            <p:cNvCxnSpPr>
              <a:stCxn id="104" idx="1"/>
              <a:endCxn id="102" idx="2"/>
            </p:cNvCxnSpPr>
            <p:nvPr/>
          </p:nvCxnSpPr>
          <p:spPr>
            <a:xfrm rot="10800000">
              <a:off x="2908800" y="2424960"/>
              <a:ext cx="283320" cy="1323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34828"/>
            <p:cNvCxnSpPr>
              <a:stCxn id="106" idx="1"/>
              <a:endCxn id="102" idx="2"/>
            </p:cNvCxnSpPr>
            <p:nvPr/>
          </p:nvCxnSpPr>
          <p:spPr>
            <a:xfrm rot="10800000">
              <a:off x="2908800" y="2424960"/>
              <a:ext cx="283320" cy="518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2" name="_s34824"/>
            <p:cNvSpPr/>
            <p:nvPr/>
          </p:nvSpPr>
          <p:spPr>
            <a:xfrm>
              <a:off x="179280" y="1447560"/>
              <a:ext cx="5461560" cy="97812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ŠORINIŲ STIMULŲ POVEIKIO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HEM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34825"/>
            <p:cNvSpPr/>
            <p:nvPr/>
          </p:nvSpPr>
          <p:spPr>
            <a:xfrm>
              <a:off x="3192480" y="2654280"/>
              <a:ext cx="5663520" cy="5763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CIJOS ĮVEDIMA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34826"/>
            <p:cNvSpPr/>
            <p:nvPr/>
          </p:nvSpPr>
          <p:spPr>
            <a:xfrm>
              <a:off x="3192480" y="3459240"/>
              <a:ext cx="5663520" cy="5760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CIJOS APDOROJIMA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34827"/>
            <p:cNvSpPr/>
            <p:nvPr/>
          </p:nvSpPr>
          <p:spPr>
            <a:xfrm>
              <a:off x="3192480" y="4263840"/>
              <a:ext cx="5663520" cy="5763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CIJOS ĮPRASMINIMA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AGRINDINĖS SĄVOK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1599840"/>
            <a:ext cx="83534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utimas –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ai procesas, primityviai atspindintis daiktų ir reiškinių savybes ar organizmo vidinę būseną, kai tai tiesiogiai veikia jutimo organ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ojūtis (jutimo proceso rezultatas)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— adekvatus dirgiklio, arba stimulo, vaizdas mūsų smegeny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uvokima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- psichinis procesas, daikto ar reiškinio vaizdo formavima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ensorinės sistemos -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sistemos, kurios priima išorinius signalus, atlieka jų analizę ir priima sprendimą, koks objektas veikia jų įėjim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ojūčių skirstymas</a:t>
            </a:r>
            <a:br>
              <a:rPr sz="3800"/>
            </a:b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(sensorinės sistemos)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šviesos (reg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ustinius (klaus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nius (uoslė, skoni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tilinius (lyt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motorinius (vestibiulik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ausmo, temperatūros, vidinės organizmo būsen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inio lauko(?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kstrasensorinius(?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BENDRIEJI POJŪČIŲ YPATUMAI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odal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ntensyv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rukm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Latentinis laik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pimtis, tank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autris (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usakomas pojūčių slenksčia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OJŪČIŲ SLENKSČIAI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425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bsoliutus žemutinis slenksti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– mažiausias dirginimas, kurios reikia konkrečiam dirgikliui aptik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kislenkstinis dirgi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kirtumo arba skyrimo slenksti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- mažiausias dviejų dirgiklių skirtumas, kurį 50 % atvejų gali aptik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smu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ėberio dėsni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: skirtumo slenkstis yra ne pastovus kiekis, bet tam tikras pastovus dirgiklių santyk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Jutimų adapt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REGA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Vyzdys, rainelė, lęšiukas, akomodacija, tinklainė, stiebeliai (lazdelės), kūgeliai, akloji dėmė, regos nervas, požymių detektor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476360" y="3573360"/>
            <a:ext cx="567684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REGA: SPALVŲ SUVOKI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Youngo ir Helmholtzo trijų spalvų teorij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: tinklainėje yra 3-jų rūšių spalvos receptorių: kiekvienos jų receptoriai yra ypač jautrūs vienai iš trijų spalvų (žalia, mėlyna, raudo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Oponentinių procesų teorija (Heringas)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: palikusi receptorius, regimoji informacija toliau analizuojama priešingų spalvų požiūriu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800" spc="-1" strike="noStrike">
                <a:solidFill>
                  <a:srgbClr val="330033"/>
                </a:solidFill>
                <a:latin typeface="Tahoma"/>
              </a:rPr>
              <a:t>Oponentinių procesų teorija (pvz.)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08280" y="1692360"/>
            <a:ext cx="612144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9:53:02Z</dcterms:created>
  <dc:creator>TADAS</dc:creator>
  <dc:description/>
  <dc:language>en-US</dc:language>
  <cp:lastModifiedBy> </cp:lastModifiedBy>
  <dcterms:modified xsi:type="dcterms:W3CDTF">2007-09-13T22:08:20Z</dcterms:modified>
  <cp:revision>24</cp:revision>
  <dc:subject/>
  <dc:title>Slide 1</dc:title>
</cp:coreProperties>
</file>